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A7FC-88F1-4E71-B623-D19C7607C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0668-45EE-432A-A78F-80FFA4E4D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CA8E-021A-429B-9C0A-B29CC07AA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A8A7-F38E-412D-A49F-3FC52ABA0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421E-9DE7-4AD9-AE75-C268BB149F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CB41-7517-4971-86BA-469E074856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1F44-8BD1-4E72-834E-FAFAAB4B6C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806E-187C-4671-8824-CE53623B4F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5649-9F9F-465E-B80B-E6EC3458EB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5F80-EC70-437E-A9C2-4634CBC18E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440C-E360-4612-892F-911E69A86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8544-92B7-41D7-B9F2-F16C4F513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F2F9-A3BE-48AF-83E5-DDF463A806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7705-C011-4AA3-AC47-6ECF8F99DA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5711-660D-40E7-B2C0-4EB8663711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8D73-2FB9-4106-844D-3F9AC9B584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749DE-B3A1-46D1-A0F6-6B5E88247A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64E-B932-431A-8384-4E4DB3390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AA8-D0B0-45EF-B220-938017203E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044-C32A-4D8E-92C5-442F60A0FD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BB6-9498-4757-A979-3A8A68AACC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438-CE1C-440A-8FE1-8FE18D459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A9BB-5E9B-45FF-992D-DEE37AB95F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4F8-CB49-42D6-8D4C-162A28BCD8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2AE-8D52-4F95-9A25-15AF6A11D5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425-F9A4-4BCA-BDA2-3C8102A377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241-56FD-4FCD-A221-028AA3646D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DD3-58FD-4D10-9FC2-F78DCD2764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A94-4A4C-4CEB-BE71-0686E249A4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739-6662-4E01-9077-651673882D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B00BE-1315-4AB0-9FA6-86F53CBA09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08641-12AC-4AF8-82DC-83CCCDF4C5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DDAF5-C02C-4553-801A-9EADFCF76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0758-28A0-495F-B40C-C0EEBD8707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D6AAF-FD1B-4656-9FAE-03FF0DD0B6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82360-A49A-4879-8DEA-6D8DA230E4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22D17-32B2-4576-BA18-295FB8F0DF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F0DE0-2492-44D7-AC40-45B2DB6439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8964D-F594-4E61-8D70-EBB4DA4789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8F7F9-78CC-4CE5-997D-692C96D307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95870-92BB-4363-8864-798BE268E2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A5BDF-BA8E-4B79-835B-F76ED58AE3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313B4-A30E-462F-B49B-AFFF005F9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BEAF-B9C1-4650-A442-F5CFD68F7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9DAC-702F-4CE2-9136-8B6185FBE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3896-977F-4C4B-968C-1E313F6CF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B850-6D91-430B-B4CD-2B91A2B5B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4E78-A7C3-4AA5-ABA3-5573AC687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112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8108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3828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8640" y="6426360"/>
            <a:ext cx="279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4F3E-CFCF-4AB7-977F-0B05A6119B20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3880"/>
            <a:ext cx="7772400" cy="1896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81120" indent="-285840">
              <a:spcBef>
                <a:spcPts val="9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81080" indent="-228600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38280" indent="-228600">
              <a:spcBef>
                <a:spcPts val="901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8600">
              <a:spcBef>
                <a:spcPts val="9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8600">
              <a:spcBef>
                <a:spcPts val="9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8600">
              <a:spcBef>
                <a:spcPts val="9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27440" y="6248520"/>
            <a:ext cx="3524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A265-E313-4A21-921B-2A4343795A18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9" name="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71000"/>
          </a:bodyPr>
          <a:p>
            <a:pPr marL="28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808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3"/>
          </p:nvPr>
        </p:nvSpPr>
        <p:spPr>
          <a:xfrm>
            <a:off x="7478640" y="6426360"/>
            <a:ext cx="279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D9A5-57D3-4E58-B36F-45FA1083D21F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905840" y="167400"/>
            <a:ext cx="7098840" cy="5617080"/>
            <a:chOff x="1905840" y="167400"/>
            <a:chExt cx="7098840" cy="5617080"/>
          </a:xfrm>
        </p:grpSpPr>
        <p:grpSp>
          <p:nvGrpSpPr>
            <p:cNvPr id="121" name=""/>
            <p:cNvGrpSpPr/>
            <p:nvPr/>
          </p:nvGrpSpPr>
          <p:grpSpPr>
            <a:xfrm>
              <a:off x="3479760" y="950760"/>
              <a:ext cx="946080" cy="711000"/>
              <a:chOff x="3479760" y="950760"/>
              <a:chExt cx="946080" cy="711000"/>
            </a:xfrm>
          </p:grpSpPr>
          <p:sp>
            <p:nvSpPr>
              <p:cNvPr id="122" name=""/>
              <p:cNvSpPr/>
              <p:nvPr/>
            </p:nvSpPr>
            <p:spPr>
              <a:xfrm>
                <a:off x="3479760" y="950760"/>
                <a:ext cx="946080" cy="7110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19600" y="1261080"/>
                <a:ext cx="22680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905840" y="167400"/>
              <a:ext cx="7098840" cy="5617080"/>
              <a:chOff x="1905840" y="167400"/>
              <a:chExt cx="7098840" cy="56170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1905840" y="167400"/>
                <a:ext cx="7098840" cy="5617080"/>
                <a:chOff x="1905840" y="167400"/>
                <a:chExt cx="7098840" cy="561708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3732480" y="1263600"/>
                  <a:ext cx="3601800" cy="2652840"/>
                  <a:chOff x="3732480" y="1263600"/>
                  <a:chExt cx="3601800" cy="265284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3732480" y="1263600"/>
                    <a:ext cx="360180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107680" y="2233440"/>
                    <a:ext cx="71280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1905840" y="167400"/>
                  <a:ext cx="7098840" cy="5617080"/>
                  <a:chOff x="1905840" y="167400"/>
                  <a:chExt cx="7098840" cy="5617080"/>
                </a:xfrm>
              </p:grpSpPr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5135040" y="2399400"/>
                    <a:ext cx="3414960" cy="2847600"/>
                    <a:chOff x="5135040" y="2399400"/>
                    <a:chExt cx="3414960" cy="284760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 rot="2700000">
                      <a:off x="5059440" y="3023640"/>
                      <a:ext cx="2025720" cy="62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rot="2700000">
                      <a:off x="7275240" y="4020120"/>
                      <a:ext cx="1083960" cy="988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5802480" y="1570320"/>
                    <a:ext cx="3199320" cy="3348360"/>
                    <a:chOff x="5802480" y="1570320"/>
                    <a:chExt cx="3199320" cy="334836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 rot="2100000">
                      <a:off x="5786640" y="2152080"/>
                      <a:ext cx="2234520" cy="649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49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rot="2100000">
                      <a:off x="7622640" y="3646800"/>
                      <a:ext cx="1194120" cy="1021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49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5762880" y="1621800"/>
                    <a:ext cx="3232080" cy="2632320"/>
                    <a:chOff x="5762880" y="1621800"/>
                    <a:chExt cx="3232080" cy="26323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 rot="1560000">
                      <a:off x="5775120" y="2068560"/>
                      <a:ext cx="2167200" cy="556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39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rot="1560000">
                      <a:off x="7702920" y="3165840"/>
                      <a:ext cx="1158120" cy="87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39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5729400" y="1662120"/>
                    <a:ext cx="3275280" cy="2062440"/>
                    <a:chOff x="5729400" y="1662120"/>
                    <a:chExt cx="3275280" cy="20624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 rot="1079400">
                      <a:off x="5765400" y="1976400"/>
                      <a:ext cx="2125800" cy="570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296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rot="1079400">
                      <a:off x="7757280" y="2668320"/>
                      <a:ext cx="1135440" cy="902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296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5780520" y="1750320"/>
                    <a:ext cx="3006720" cy="1198800"/>
                    <a:chOff x="5780520" y="1750320"/>
                    <a:chExt cx="3006720" cy="119880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 rot="479400">
                      <a:off x="5803920" y="1882800"/>
                      <a:ext cx="1939320" cy="47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176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 rot="479400">
                      <a:off x="7702920" y="2134800"/>
                      <a:ext cx="1037520" cy="74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176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5846400" y="1809720"/>
                    <a:ext cx="2658240" cy="449280"/>
                    <a:chOff x="5846400" y="1809720"/>
                    <a:chExt cx="2658240" cy="44928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 rot="21540000">
                      <a:off x="5848560" y="1840320"/>
                      <a:ext cx="1735920" cy="27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6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 rot="21540000">
                      <a:off x="7575120" y="1817640"/>
                      <a:ext cx="925560" cy="433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6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763240" y="1219320"/>
                    <a:ext cx="2438640" cy="1028880"/>
                    <a:chOff x="5763240" y="1219320"/>
                    <a:chExt cx="2438640" cy="102888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 rot="20820000">
                      <a:off x="5786640" y="1692720"/>
                      <a:ext cx="1549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9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rot="20820000">
                      <a:off x="7314840" y="1304640"/>
                      <a:ext cx="828720" cy="613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9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413440" y="2552040"/>
                    <a:ext cx="3416400" cy="2845800"/>
                    <a:chOff x="2413440" y="2552040"/>
                    <a:chExt cx="3416400" cy="284580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flipH="1" rot="18900000">
                      <a:off x="3878640" y="3176640"/>
                      <a:ext cx="2026440" cy="62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flipH="1" rot="18900000">
                      <a:off x="2603880" y="4172400"/>
                      <a:ext cx="1081440" cy="987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1905840" y="1788480"/>
                    <a:ext cx="3202920" cy="3347640"/>
                    <a:chOff x="1905840" y="1788480"/>
                    <a:chExt cx="3202920" cy="334764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 flipH="1" rot="19500000">
                      <a:off x="2886840" y="2371680"/>
                      <a:ext cx="2238120" cy="646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7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 flipH="1" rot="19500000">
                      <a:off x="2090520" y="3863880"/>
                      <a:ext cx="1193760" cy="1022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910880" y="1838520"/>
                    <a:ext cx="3240720" cy="2633760"/>
                    <a:chOff x="1910880" y="1838520"/>
                    <a:chExt cx="3240720" cy="263376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 flipH="1" rot="20040000">
                      <a:off x="2968200" y="2285640"/>
                      <a:ext cx="2170440" cy="559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 flipH="1" rot="20040000">
                      <a:off x="2043720" y="3386520"/>
                      <a:ext cx="1158480" cy="87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906200" y="1879920"/>
                    <a:ext cx="3272760" cy="2060640"/>
                    <a:chOff x="1906200" y="1879920"/>
                    <a:chExt cx="3272760" cy="206064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 flipH="1" rot="20520000">
                      <a:off x="3018600" y="2193840"/>
                      <a:ext cx="2123640" cy="572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7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flipH="1" rot="20520000">
                      <a:off x="2017440" y="2886840"/>
                      <a:ext cx="1133640" cy="900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7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2123280" y="1968840"/>
                    <a:ext cx="3004920" cy="1198080"/>
                    <a:chOff x="2123280" y="1968840"/>
                    <a:chExt cx="3004920" cy="119808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 flipH="1" rot="21120000">
                      <a:off x="3164400" y="2101320"/>
                      <a:ext cx="1939680" cy="470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 flipH="1" rot="21120000">
                      <a:off x="2170080" y="2353680"/>
                      <a:ext cx="1037520" cy="74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2402640" y="2027160"/>
                    <a:ext cx="2660040" cy="449280"/>
                    <a:chOff x="2402640" y="2027160"/>
                    <a:chExt cx="2660040" cy="44928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 flipH="1" rot="60000">
                      <a:off x="3323160" y="2057760"/>
                      <a:ext cx="1737360" cy="27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 flipH="1" rot="60000">
                      <a:off x="2405880" y="2035080"/>
                      <a:ext cx="925920" cy="433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2703600" y="1438560"/>
                    <a:ext cx="2442240" cy="1027080"/>
                    <a:chOff x="2703600" y="1438560"/>
                    <a:chExt cx="2442240" cy="102708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 flipH="1" rot="780000">
                      <a:off x="3571560" y="1910880"/>
                      <a:ext cx="15508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H="1" rot="780000">
                      <a:off x="2761200" y="1523880"/>
                      <a:ext cx="828720" cy="612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799000" y="1111680"/>
                    <a:ext cx="2432520" cy="1464840"/>
                    <a:chOff x="2799000" y="1111680"/>
                    <a:chExt cx="2432520" cy="1464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 flipH="1" rot="1260000">
                      <a:off x="3657960" y="1900800"/>
                      <a:ext cx="1550880" cy="41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H="1" rot="1260000">
                      <a:off x="2888280" y="1237680"/>
                      <a:ext cx="826200" cy="655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3041280" y="666000"/>
                    <a:ext cx="2273400" cy="2061360"/>
                    <a:chOff x="3041280" y="666000"/>
                    <a:chExt cx="2273400" cy="20613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 flipH="1" rot="2040000">
                      <a:off x="3810600" y="1911240"/>
                      <a:ext cx="1512720" cy="429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flipH="1" rot="2040000">
                      <a:off x="3162240" y="833400"/>
                      <a:ext cx="806400" cy="679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3311640" y="262080"/>
                    <a:ext cx="2059920" cy="2446200"/>
                    <a:chOff x="3311640" y="262080"/>
                    <a:chExt cx="2059920" cy="244620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 flipH="1" rot="2640000">
                      <a:off x="3956040" y="1824840"/>
                      <a:ext cx="1471320" cy="433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 flipH="1" rot="2640000">
                      <a:off x="3439800" y="437760"/>
                      <a:ext cx="783360" cy="68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3881520" y="226080"/>
                    <a:ext cx="1929600" cy="1993320"/>
                    <a:chOff x="3881520" y="226080"/>
                    <a:chExt cx="1929600" cy="199332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H="1" rot="3480000">
                      <a:off x="4592880" y="1334160"/>
                      <a:ext cx="1371960" cy="397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H="1" rot="3480000">
                      <a:off x="3975480" y="388800"/>
                      <a:ext cx="731520" cy="62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341240" y="167400"/>
                    <a:ext cx="1445760" cy="2045160"/>
                    <a:chOff x="4341240" y="167400"/>
                    <a:chExt cx="1445760" cy="20451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flipH="1" rot="4140000">
                      <a:off x="4699800" y="1331280"/>
                      <a:ext cx="1344240" cy="373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H="1" rot="4140000">
                      <a:off x="4386960" y="311400"/>
                      <a:ext cx="714240" cy="590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5641920" y="822960"/>
                    <a:ext cx="2422800" cy="1509840"/>
                    <a:chOff x="5641920" y="822960"/>
                    <a:chExt cx="2422800" cy="15098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rot="20280000">
                      <a:off x="5662800" y="1645560"/>
                      <a:ext cx="154512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82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rot="20280000">
                      <a:off x="7144560" y="954000"/>
                      <a:ext cx="827280" cy="65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82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5533200" y="464760"/>
                    <a:ext cx="2305800" cy="1981080"/>
                    <a:chOff x="5533200" y="464760"/>
                    <a:chExt cx="2305800" cy="198108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rot="19680000">
                      <a:off x="5531040" y="1647720"/>
                      <a:ext cx="1518840" cy="42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70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rot="19680000">
                      <a:off x="6908400" y="628200"/>
                      <a:ext cx="812520" cy="678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70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 flipH="1" rot="4560000">
                    <a:off x="4765680" y="1466280"/>
                    <a:ext cx="126648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4560000">
                    <a:off x="4796640" y="539280"/>
                    <a:ext cx="6760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086080" y="189360"/>
                    <a:ext cx="1591200" cy="1982880"/>
                    <a:chOff x="5086080" y="189360"/>
                    <a:chExt cx="1591200" cy="19828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7760000">
                      <a:off x="4866120" y="1332360"/>
                      <a:ext cx="1325520" cy="33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39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7760000">
                      <a:off x="5925960" y="356400"/>
                      <a:ext cx="708480" cy="538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39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4927680" y="226800"/>
                    <a:ext cx="2457360" cy="1926000"/>
                    <a:chOff x="4927680" y="226800"/>
                    <a:chExt cx="2457360" cy="19260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18840000">
                      <a:off x="4890240" y="1224360"/>
                      <a:ext cx="1412280" cy="496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60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18840000">
                      <a:off x="6465240" y="378720"/>
                      <a:ext cx="754200" cy="780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60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376600" y="279720"/>
                    <a:ext cx="545760" cy="1811160"/>
                    <a:chOff x="5376600" y="279720"/>
                    <a:chExt cx="545760" cy="18111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16680000">
                      <a:off x="4941000" y="1421280"/>
                      <a:ext cx="1181880" cy="14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18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16680000">
                      <a:off x="5449320" y="489600"/>
                      <a:ext cx="627480" cy="23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18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2829960" y="2550240"/>
                    <a:ext cx="2994840" cy="3156120"/>
                    <a:chOff x="2829960" y="2550240"/>
                    <a:chExt cx="2994840" cy="31561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flipH="1" rot="18360000">
                      <a:off x="3899880" y="3274200"/>
                      <a:ext cx="2107440" cy="622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7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flipH="1" rot="18360000">
                      <a:off x="2995560" y="4469760"/>
                      <a:ext cx="1126440" cy="983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3628800" y="2613960"/>
                    <a:ext cx="1985400" cy="3162960"/>
                    <a:chOff x="3628800" y="2613960"/>
                    <a:chExt cx="1985400" cy="316296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7520000">
                      <a:off x="3957840" y="3362040"/>
                      <a:ext cx="2011680" cy="589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7520000">
                      <a:off x="3727800" y="4633920"/>
                      <a:ext cx="1073520" cy="938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4427640" y="2674800"/>
                    <a:ext cx="1111320" cy="3008520"/>
                    <a:chOff x="4427640" y="2674800"/>
                    <a:chExt cx="1111320" cy="30085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6860000">
                      <a:off x="4156200" y="3421800"/>
                      <a:ext cx="1922040" cy="485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7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6860000">
                      <a:off x="4390920" y="4722480"/>
                      <a:ext cx="1023480" cy="769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5099400" y="2513520"/>
                    <a:ext cx="3093120" cy="3097440"/>
                    <a:chOff x="5099400" y="2513520"/>
                    <a:chExt cx="3093120" cy="309744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3119400">
                      <a:off x="4943880" y="3216960"/>
                      <a:ext cx="2090880" cy="62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3119400">
                      <a:off x="6899400" y="4372560"/>
                      <a:ext cx="1118880" cy="98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16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5196960" y="2577600"/>
                    <a:ext cx="2408400" cy="3195000"/>
                    <a:chOff x="5196960" y="2577600"/>
                    <a:chExt cx="2408400" cy="319500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rot="3719400">
                      <a:off x="4911840" y="3328560"/>
                      <a:ext cx="2055960" cy="589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74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3719400">
                      <a:off x="6386400" y="4602600"/>
                      <a:ext cx="1098720" cy="932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2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5261400" y="2685240"/>
                    <a:ext cx="1691640" cy="3099240"/>
                    <a:chOff x="5261400" y="2685240"/>
                    <a:chExt cx="1691640" cy="3099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rot="4260000">
                      <a:off x="4816080" y="3467160"/>
                      <a:ext cx="2000520" cy="485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85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rot="4260000">
                      <a:off x="5882760" y="4772160"/>
                      <a:ext cx="1069560" cy="76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39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5393160" y="2818800"/>
                    <a:ext cx="878400" cy="2828160"/>
                    <a:chOff x="5393160" y="2818800"/>
                    <a:chExt cx="878400" cy="28281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rot="4919400">
                      <a:off x="4802760" y="3554280"/>
                      <a:ext cx="1840680" cy="407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97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rot="4919400">
                      <a:off x="5393520" y="4794120"/>
                      <a:ext cx="979920" cy="645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5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4912200" y="2874240"/>
                    <a:ext cx="802440" cy="2743920"/>
                    <a:chOff x="4912200" y="2874240"/>
                    <a:chExt cx="802440" cy="27439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rot="5759400">
                      <a:off x="4582800" y="3633120"/>
                      <a:ext cx="1788120" cy="290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61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rot="5759400">
                      <a:off x="4712400" y="4893120"/>
                      <a:ext cx="951480" cy="455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612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8" name=""/>
              <p:cNvGrpSpPr/>
              <p:nvPr/>
            </p:nvGrpSpPr>
            <p:grpSpPr>
              <a:xfrm>
                <a:off x="2173320" y="679320"/>
                <a:ext cx="6732360" cy="4522680"/>
                <a:chOff x="2173320" y="679320"/>
                <a:chExt cx="6732360" cy="452268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2173320" y="679320"/>
                  <a:ext cx="6732360" cy="4522680"/>
                  <a:chOff x="2173320" y="679320"/>
                  <a:chExt cx="6732360" cy="452268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38760" y="855720"/>
                    <a:ext cx="3166920" cy="1303560"/>
                    <a:chOff x="5738760" y="855720"/>
                    <a:chExt cx="3166920" cy="13035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flipH="1" rot="10800000">
                      <a:off x="5738400" y="855720"/>
                      <a:ext cx="3166920" cy="13035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f8b1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2558880" y="2267640"/>
                    <a:ext cx="2485800" cy="2934360"/>
                    <a:chOff x="2558880" y="2267640"/>
                    <a:chExt cx="2485800" cy="293436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H="1">
                      <a:off x="2558520" y="2267640"/>
                      <a:ext cx="2485800" cy="29343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e1f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5816520" y="1749600"/>
                    <a:ext cx="1758960" cy="2934360"/>
                    <a:chOff x="5816520" y="1749600"/>
                    <a:chExt cx="1758960" cy="2934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816520" y="1749600"/>
                      <a:ext cx="1758960" cy="29343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f8b1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2173320" y="1295280"/>
                    <a:ext cx="3132000" cy="2934360"/>
                    <a:chOff x="2173320" y="1295280"/>
                    <a:chExt cx="3132000" cy="293436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flipH="1">
                      <a:off x="2173320" y="1295280"/>
                      <a:ext cx="3132000" cy="29343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e1f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3055680" y="679320"/>
                    <a:ext cx="2281320" cy="1317600"/>
                    <a:chOff x="3055680" y="679320"/>
                    <a:chExt cx="2281320" cy="131760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flipH="1">
                      <a:off x="3055320" y="679320"/>
                      <a:ext cx="2281320" cy="131760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f8b1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5488200" y="1873440"/>
                    <a:ext cx="942840" cy="1257480"/>
                    <a:chOff x="5488200" y="1873440"/>
                    <a:chExt cx="942840" cy="125748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5488200" y="1873440"/>
                      <a:ext cx="942840" cy="125748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ffe10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2" name=""/>
                  <p:cNvSpPr/>
                  <p:nvPr/>
                </p:nvSpPr>
                <p:spPr>
                  <a:xfrm flipH="1">
                    <a:off x="4305240" y="842760"/>
                    <a:ext cx="511200" cy="1870920"/>
                  </a:xfrm>
                  <a:prstGeom prst="pie">
                    <a:avLst/>
                  </a:prstGeom>
                  <a:noFill/>
                  <a:ln w="1260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" name=""/>
                <p:cNvSpPr/>
                <p:nvPr/>
              </p:nvSpPr>
              <p:spPr>
                <a:xfrm rot="20280000">
                  <a:off x="6125040" y="2184480"/>
                  <a:ext cx="539640" cy="1027800"/>
                </a:xfrm>
                <a:prstGeom prst="pie">
                  <a:avLst/>
                </a:prstGeom>
                <a:noFill/>
                <a:ln w="1260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2340000" y="717480"/>
              <a:ext cx="6401520" cy="4702680"/>
              <a:chOff x="2340000" y="717480"/>
              <a:chExt cx="6401520" cy="4702680"/>
            </a:xfrm>
          </p:grpSpPr>
          <p:sp>
            <p:nvSpPr>
              <p:cNvPr id="245" name=""/>
              <p:cNvSpPr/>
              <p:nvPr/>
            </p:nvSpPr>
            <p:spPr>
              <a:xfrm flipH="1">
                <a:off x="4470480" y="3241440"/>
                <a:ext cx="593640" cy="181728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3380040" y="2575800"/>
                <a:ext cx="1956240" cy="2844360"/>
                <a:chOff x="3380040" y="2575800"/>
                <a:chExt cx="1956240" cy="2844360"/>
              </a:xfrm>
            </p:grpSpPr>
            <p:sp>
              <p:nvSpPr>
                <p:cNvPr id="247" name=""/>
                <p:cNvSpPr/>
                <p:nvPr/>
              </p:nvSpPr>
              <p:spPr>
                <a:xfrm flipH="1">
                  <a:off x="3380040" y="2575800"/>
                  <a:ext cx="1956240" cy="284436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642120" y="2116800"/>
                <a:ext cx="1533600" cy="2937960"/>
                <a:chOff x="3642120" y="2116800"/>
                <a:chExt cx="1533600" cy="2937960"/>
              </a:xfrm>
            </p:grpSpPr>
            <p:sp>
              <p:nvSpPr>
                <p:cNvPr id="249" name=""/>
                <p:cNvSpPr/>
                <p:nvPr/>
              </p:nvSpPr>
              <p:spPr>
                <a:xfrm flipH="1">
                  <a:off x="3642120" y="2116800"/>
                  <a:ext cx="1533600" cy="293796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2340000" y="1732320"/>
                <a:ext cx="2929680" cy="2937960"/>
                <a:chOff x="2340000" y="1732320"/>
                <a:chExt cx="2929680" cy="293796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2340000" y="1732320"/>
                  <a:ext cx="2929680" cy="293796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584320" y="2147040"/>
                <a:ext cx="471240" cy="2936160"/>
                <a:chOff x="5584320" y="2147040"/>
                <a:chExt cx="471240" cy="2936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584320" y="2147040"/>
                  <a:ext cx="471240" cy="293616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708160" y="2132640"/>
                <a:ext cx="1238400" cy="2936520"/>
                <a:chOff x="5708160" y="2132640"/>
                <a:chExt cx="1238400" cy="29365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708160" y="2132640"/>
                  <a:ext cx="1238400" cy="293652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6154560" y="3554280"/>
                <a:ext cx="592200" cy="181548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8880000">
                <a:off x="5218560" y="2946600"/>
                <a:ext cx="541440" cy="1029240"/>
              </a:xfrm>
              <a:prstGeom prst="pie">
                <a:avLst/>
              </a:prstGeom>
              <a:noFill/>
              <a:ln w="1260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2694960" y="3392280"/>
                <a:ext cx="1325880" cy="187128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321360" y="1403640"/>
                <a:ext cx="851040" cy="187272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10680" y="3116160"/>
                <a:ext cx="1230840" cy="196632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65920" y="2112120"/>
                <a:ext cx="1854720" cy="131184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934320" y="717480"/>
                <a:ext cx="811440" cy="175968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320000">
                <a:off x="4179960" y="2156040"/>
                <a:ext cx="539640" cy="1027800"/>
              </a:xfrm>
              <a:prstGeom prst="pie">
                <a:avLst/>
              </a:prstGeom>
              <a:noFill/>
              <a:ln w="1260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39500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9000"/>
          </a:bodyPr>
          <a:p>
            <a:pPr marL="270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7000" algn="ctr">
              <a:spcBef>
                <a:spcPts val="9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"/>
          </p:nvPr>
        </p:nvSpPr>
        <p:spPr>
          <a:xfrm>
            <a:off x="7327440" y="6248520"/>
            <a:ext cx="3524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9B9D-35AF-4681-8D40-2392D94B0393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4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Ancient Ch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made up of over 200 small kingd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united by Emperor Ch ‘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ers an area of 3,691,500 sq. m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rgest country in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lds largest pop. over 3 billion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310360" y="1600200"/>
            <a:ext cx="2712960" cy="2170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689440" y="4157640"/>
            <a:ext cx="19558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5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The Great Wall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t by over 1 million people, mostly peasants and people that couldn’t pay their taxes (conscripted worker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the emper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npopula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n “Great Wall” was built by the Ming Dynasty between 1368-1644 a.d. and improved upon the original wall.  Stretched 3,997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the Ming’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npopu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6227640" y="-53280"/>
            <a:ext cx="2956680" cy="3307680"/>
            <a:chOff x="6227640" y="-53280"/>
            <a:chExt cx="2956680" cy="3307680"/>
          </a:xfrm>
        </p:grpSpPr>
        <p:grpSp>
          <p:nvGrpSpPr>
            <p:cNvPr id="360" name=""/>
            <p:cNvGrpSpPr/>
            <p:nvPr/>
          </p:nvGrpSpPr>
          <p:grpSpPr>
            <a:xfrm>
              <a:off x="7566480" y="2500200"/>
              <a:ext cx="1004760" cy="754200"/>
              <a:chOff x="7566480" y="2500200"/>
              <a:chExt cx="1004760" cy="75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7566480" y="250020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926840" y="28288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7798680" y="1442880"/>
              <a:ext cx="1004760" cy="754200"/>
              <a:chOff x="7798680" y="1442880"/>
              <a:chExt cx="1004760" cy="75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779868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159040" y="17715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26280" y="0"/>
              <a:ext cx="1006560" cy="754200"/>
              <a:chOff x="6326280" y="0"/>
              <a:chExt cx="1006560" cy="75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6326280" y="0"/>
                <a:ext cx="10065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87360" y="328680"/>
                <a:ext cx="24336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227640" y="-53280"/>
              <a:ext cx="2956680" cy="2336040"/>
              <a:chOff x="6227640" y="-53280"/>
              <a:chExt cx="2956680" cy="23360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6989760" y="403200"/>
                <a:ext cx="1498680" cy="1104840"/>
                <a:chOff x="6989760" y="403200"/>
                <a:chExt cx="1498680" cy="11048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98976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561440" y="806400"/>
                  <a:ext cx="29664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227640" y="-53280"/>
                <a:ext cx="2956680" cy="2336040"/>
                <a:chOff x="6227640" y="-53280"/>
                <a:chExt cx="2956680" cy="233604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7575840" y="874800"/>
                  <a:ext cx="1417320" cy="1185840"/>
                  <a:chOff x="7575840" y="874800"/>
                  <a:chExt cx="1417320" cy="11858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rot="2700000">
                    <a:off x="7545240" y="1133280"/>
                    <a:ext cx="840600" cy="26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2700000">
                    <a:off x="8462520" y="1549080"/>
                    <a:ext cx="450720" cy="41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850880" y="530640"/>
                  <a:ext cx="1332360" cy="1394280"/>
                  <a:chOff x="7850880" y="530640"/>
                  <a:chExt cx="1332360" cy="13942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rot="2100000">
                    <a:off x="7844040" y="772560"/>
                    <a:ext cx="929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49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2100000">
                    <a:off x="8606880" y="1393200"/>
                    <a:ext cx="498960" cy="427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49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834680" y="551880"/>
                  <a:ext cx="1347840" cy="1095840"/>
                  <a:chOff x="7834680" y="551880"/>
                  <a:chExt cx="1347840" cy="109584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rot="1560000">
                    <a:off x="7839720" y="737640"/>
                    <a:ext cx="902160" cy="23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39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1560000">
                    <a:off x="8641440" y="1193400"/>
                    <a:ext cx="484920" cy="366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39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822800" y="567720"/>
                  <a:ext cx="1361520" cy="859320"/>
                  <a:chOff x="7822800" y="567720"/>
                  <a:chExt cx="1361520" cy="8593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rot="1079400">
                    <a:off x="7837920" y="698040"/>
                    <a:ext cx="883800" cy="23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29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079400">
                    <a:off x="8665920" y="986760"/>
                    <a:ext cx="471600" cy="37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29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840800" y="604800"/>
                  <a:ext cx="1252800" cy="499680"/>
                  <a:chOff x="7840800" y="604800"/>
                  <a:chExt cx="1252800" cy="49968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rot="479400">
                    <a:off x="7850520" y="659880"/>
                    <a:ext cx="809640" cy="195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17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479400">
                    <a:off x="8643600" y="765000"/>
                    <a:ext cx="430560" cy="310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17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868520" y="629640"/>
                  <a:ext cx="1107720" cy="186120"/>
                  <a:chOff x="7868520" y="629640"/>
                  <a:chExt cx="1107720" cy="1861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21540000">
                    <a:off x="7869240" y="642960"/>
                    <a:ext cx="724320" cy="114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6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21540000">
                    <a:off x="8589240" y="632880"/>
                    <a:ext cx="385200" cy="179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6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834320" y="383400"/>
                  <a:ext cx="1018440" cy="429480"/>
                  <a:chOff x="7834320" y="383400"/>
                  <a:chExt cx="1018440" cy="4294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20820000">
                    <a:off x="7844040" y="579240"/>
                    <a:ext cx="64836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92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20820000">
                    <a:off x="8482680" y="418680"/>
                    <a:ext cx="345600" cy="257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92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6440040" y="938160"/>
                  <a:ext cx="1422000" cy="1184400"/>
                  <a:chOff x="6440040" y="938160"/>
                  <a:chExt cx="1422000" cy="11844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18900000">
                    <a:off x="7049520" y="1198080"/>
                    <a:ext cx="843480" cy="25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18900000">
                    <a:off x="6519240" y="1611720"/>
                    <a:ext cx="450000" cy="41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227640" y="621000"/>
                  <a:ext cx="1332360" cy="1392120"/>
                  <a:chOff x="6227640" y="621000"/>
                  <a:chExt cx="1332360" cy="13921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9500000">
                    <a:off x="6635520" y="863280"/>
                    <a:ext cx="930960" cy="269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7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9500000">
                    <a:off x="6304680" y="1482480"/>
                    <a:ext cx="496080" cy="42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6232320" y="643680"/>
                  <a:ext cx="1348200" cy="1094040"/>
                  <a:chOff x="6232320" y="643680"/>
                  <a:chExt cx="1348200" cy="109404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20040000">
                    <a:off x="6671520" y="829800"/>
                    <a:ext cx="903960" cy="231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20040000">
                    <a:off x="6287760" y="1285200"/>
                    <a:ext cx="482040" cy="36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6228360" y="659880"/>
                  <a:ext cx="1363320" cy="859320"/>
                  <a:chOff x="6228360" y="659880"/>
                  <a:chExt cx="1363320" cy="8593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20520000">
                    <a:off x="6693120" y="790200"/>
                    <a:ext cx="882720" cy="23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7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20520000">
                    <a:off x="6274800" y="1077840"/>
                    <a:ext cx="474120" cy="37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7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6319080" y="697320"/>
                  <a:ext cx="1249200" cy="496080"/>
                  <a:chOff x="6319080" y="697320"/>
                  <a:chExt cx="1249200" cy="49608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H="1" rot="21120000">
                    <a:off x="6751800" y="752400"/>
                    <a:ext cx="806400" cy="19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rot="21120000">
                    <a:off x="6337800" y="857520"/>
                    <a:ext cx="431280" cy="307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6435720" y="720360"/>
                  <a:ext cx="1105560" cy="185760"/>
                  <a:chOff x="6435720" y="720360"/>
                  <a:chExt cx="1105560" cy="1857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rot="60000">
                    <a:off x="6819120" y="732960"/>
                    <a:ext cx="720720" cy="113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rot="60000">
                    <a:off x="6436800" y="723600"/>
                    <a:ext cx="387360" cy="178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561000" y="474120"/>
                  <a:ext cx="1016640" cy="429480"/>
                  <a:chOff x="6561000" y="474120"/>
                  <a:chExt cx="1016640" cy="42948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H="1" rot="780000">
                    <a:off x="6921360" y="669960"/>
                    <a:ext cx="645840" cy="16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rot="780000">
                    <a:off x="6585120" y="509400"/>
                    <a:ext cx="344160" cy="257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6601680" y="339120"/>
                  <a:ext cx="1013040" cy="610200"/>
                  <a:chOff x="6601680" y="339120"/>
                  <a:chExt cx="1013040" cy="610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H="1" rot="1260000">
                    <a:off x="6958800" y="666720"/>
                    <a:ext cx="645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rot="1260000">
                    <a:off x="6638040" y="391680"/>
                    <a:ext cx="3430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6701760" y="152280"/>
                  <a:ext cx="945360" cy="858600"/>
                  <a:chOff x="6701760" y="152280"/>
                  <a:chExt cx="945360" cy="8586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H="1" rot="2040000">
                    <a:off x="7020720" y="672120"/>
                    <a:ext cx="6303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rot="2040000">
                    <a:off x="6751440" y="221760"/>
                    <a:ext cx="335520" cy="281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815160" y="-13680"/>
                  <a:ext cx="855720" cy="1017720"/>
                  <a:chOff x="6815160" y="-13680"/>
                  <a:chExt cx="855720" cy="10177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H="1" rot="2640000">
                    <a:off x="7081560" y="635760"/>
                    <a:ext cx="612720" cy="180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rot="2640000">
                    <a:off x="6867360" y="60120"/>
                    <a:ext cx="327240" cy="283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7051320" y="-29160"/>
                  <a:ext cx="804240" cy="830520"/>
                  <a:chOff x="7051320" y="-29160"/>
                  <a:chExt cx="804240" cy="8305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3480000">
                    <a:off x="7345800" y="431640"/>
                    <a:ext cx="573840" cy="165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3480000">
                    <a:off x="7090920" y="38160"/>
                    <a:ext cx="305280" cy="26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7243200" y="-53280"/>
                  <a:ext cx="599400" cy="849240"/>
                  <a:chOff x="7243200" y="-53280"/>
                  <a:chExt cx="599400" cy="84924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4140000">
                    <a:off x="7388640" y="427680"/>
                    <a:ext cx="559800" cy="157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4140000">
                    <a:off x="7262640" y="5760"/>
                    <a:ext cx="29520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786440" y="218520"/>
                  <a:ext cx="1006200" cy="627840"/>
                  <a:chOff x="7786440" y="218520"/>
                  <a:chExt cx="1006200" cy="6278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20280000">
                    <a:off x="7795080" y="560520"/>
                    <a:ext cx="64152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82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20280000">
                    <a:off x="8410320" y="272520"/>
                    <a:ext cx="343440" cy="273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82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7738920" y="69840"/>
                  <a:ext cx="960480" cy="824760"/>
                  <a:chOff x="7738920" y="69840"/>
                  <a:chExt cx="960480" cy="824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rot="19680000">
                    <a:off x="7737840" y="562680"/>
                    <a:ext cx="632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70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19680000">
                    <a:off x="8311680" y="137880"/>
                    <a:ext cx="338400" cy="281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70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7" name=""/>
                <p:cNvSpPr/>
                <p:nvPr/>
              </p:nvSpPr>
              <p:spPr>
                <a:xfrm flipH="1" rot="4560000">
                  <a:off x="7419240" y="487080"/>
                  <a:ext cx="527040" cy="73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 rot="4560000">
                  <a:off x="7431840" y="101160"/>
                  <a:ext cx="280800" cy="115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7552800" y="-45360"/>
                  <a:ext cx="661680" cy="826560"/>
                  <a:chOff x="7552800" y="-45360"/>
                  <a:chExt cx="661680" cy="8265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17760000">
                    <a:off x="7462080" y="430560"/>
                    <a:ext cx="550800" cy="142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39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17760000">
                    <a:off x="7902360" y="23760"/>
                    <a:ext cx="294120" cy="223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39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7488720" y="-28440"/>
                  <a:ext cx="1022400" cy="801000"/>
                  <a:chOff x="7488720" y="-28440"/>
                  <a:chExt cx="1022400" cy="80100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rot="18840000">
                    <a:off x="7474320" y="383760"/>
                    <a:ext cx="586440" cy="209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6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18840000">
                    <a:off x="8127720" y="35280"/>
                    <a:ext cx="315360" cy="32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6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7675560" y="-5400"/>
                  <a:ext cx="225000" cy="749880"/>
                  <a:chOff x="7675560" y="-5400"/>
                  <a:chExt cx="225000" cy="7498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16680000">
                    <a:off x="7494840" y="468000"/>
                    <a:ext cx="488880" cy="60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18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16680000">
                    <a:off x="7705800" y="81000"/>
                    <a:ext cx="258480" cy="96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18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6611400" y="937080"/>
                  <a:ext cx="1248120" cy="1311120"/>
                  <a:chOff x="6611400" y="937080"/>
                  <a:chExt cx="1248120" cy="13111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flipH="1" rot="18360000">
                    <a:off x="7057800" y="1237320"/>
                    <a:ext cx="875880" cy="26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7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rot="18360000">
                    <a:off x="6679080" y="1735560"/>
                    <a:ext cx="467640" cy="407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946560" y="963720"/>
                  <a:ext cx="824760" cy="1315440"/>
                  <a:chOff x="6946560" y="963720"/>
                  <a:chExt cx="824760" cy="13154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H="1" rot="17520000">
                    <a:off x="7082640" y="1273680"/>
                    <a:ext cx="8355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rot="17520000">
                    <a:off x="6986520" y="1804680"/>
                    <a:ext cx="446400" cy="388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7280280" y="987840"/>
                  <a:ext cx="461880" cy="1252440"/>
                  <a:chOff x="7280280" y="987840"/>
                  <a:chExt cx="461880" cy="125244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H="1" rot="16860000">
                    <a:off x="7166160" y="1298160"/>
                    <a:ext cx="799560" cy="202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7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 rot="16860000">
                    <a:off x="7264440" y="1841400"/>
                    <a:ext cx="425520" cy="31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7557120" y="921960"/>
                  <a:ext cx="1288440" cy="1292040"/>
                  <a:chOff x="7557120" y="921960"/>
                  <a:chExt cx="1288440" cy="12920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rot="3119400">
                    <a:off x="7492320" y="1215000"/>
                    <a:ext cx="871560" cy="260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62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3119400">
                    <a:off x="8308080" y="1698120"/>
                    <a:ext cx="464400" cy="41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16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7601400" y="950760"/>
                  <a:ext cx="1000440" cy="1325880"/>
                  <a:chOff x="7601400" y="950760"/>
                  <a:chExt cx="1000440" cy="132588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rot="3719400">
                    <a:off x="7484040" y="1261080"/>
                    <a:ext cx="851400" cy="24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74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3719400">
                    <a:off x="8093520" y="1788840"/>
                    <a:ext cx="458640" cy="388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2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626960" y="994320"/>
                  <a:ext cx="704160" cy="1288440"/>
                  <a:chOff x="7626960" y="994320"/>
                  <a:chExt cx="704160" cy="12884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4260000">
                    <a:off x="7443000" y="1317960"/>
                    <a:ext cx="830520" cy="204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85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4260000">
                    <a:off x="7884000" y="1860120"/>
                    <a:ext cx="446400" cy="31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39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679160" y="1049040"/>
                  <a:ext cx="367560" cy="1179000"/>
                  <a:chOff x="7679160" y="1049040"/>
                  <a:chExt cx="367560" cy="117900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4919400">
                    <a:off x="7435800" y="1352880"/>
                    <a:ext cx="7635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97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4919400">
                    <a:off x="7680240" y="1871640"/>
                    <a:ext cx="407520" cy="271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52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479360" y="1073520"/>
                  <a:ext cx="335880" cy="1139760"/>
                  <a:chOff x="7479360" y="1073520"/>
                  <a:chExt cx="335880" cy="11397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5759400">
                    <a:off x="7344360" y="1387440"/>
                    <a:ext cx="742320" cy="122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61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5759400">
                    <a:off x="7396560" y="1912680"/>
                    <a:ext cx="394200" cy="189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61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2" name=""/>
              <p:cNvSpPr/>
              <p:nvPr/>
            </p:nvSpPr>
            <p:spPr>
              <a:xfrm flipH="1">
                <a:off x="7298280" y="1225440"/>
                <a:ext cx="247680" cy="75564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843960" y="949320"/>
                <a:ext cx="815760" cy="1182600"/>
                <a:chOff x="6843960" y="949320"/>
                <a:chExt cx="815760" cy="1182600"/>
              </a:xfrm>
            </p:grpSpPr>
            <p:sp>
              <p:nvSpPr>
                <p:cNvPr id="474" name=""/>
                <p:cNvSpPr/>
                <p:nvPr/>
              </p:nvSpPr>
              <p:spPr>
                <a:xfrm flipH="1">
                  <a:off x="6843960" y="949320"/>
                  <a:ext cx="815760" cy="118260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7825320" y="233280"/>
                <a:ext cx="1317600" cy="542880"/>
                <a:chOff x="7825320" y="233280"/>
                <a:chExt cx="1317600" cy="542880"/>
              </a:xfrm>
            </p:grpSpPr>
            <p:sp>
              <p:nvSpPr>
                <p:cNvPr id="476" name=""/>
                <p:cNvSpPr/>
                <p:nvPr/>
              </p:nvSpPr>
              <p:spPr>
                <a:xfrm flipH="1" rot="10800000">
                  <a:off x="7825320" y="233280"/>
                  <a:ext cx="1317600" cy="54288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953040" y="758880"/>
                <a:ext cx="638280" cy="1220760"/>
                <a:chOff x="6953040" y="758880"/>
                <a:chExt cx="638280" cy="1220760"/>
              </a:xfrm>
            </p:grpSpPr>
            <p:sp>
              <p:nvSpPr>
                <p:cNvPr id="478" name=""/>
                <p:cNvSpPr/>
                <p:nvPr/>
              </p:nvSpPr>
              <p:spPr>
                <a:xfrm flipH="1">
                  <a:off x="6952680" y="758880"/>
                  <a:ext cx="638280" cy="122076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6500880" y="820800"/>
                <a:ext cx="1036800" cy="1220760"/>
                <a:chOff x="6500880" y="820800"/>
                <a:chExt cx="1036800" cy="122076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6500880" y="820800"/>
                  <a:ext cx="1036800" cy="122076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6409080" y="598320"/>
                <a:ext cx="1220760" cy="1222200"/>
                <a:chOff x="6409080" y="598320"/>
                <a:chExt cx="1220760" cy="1222200"/>
              </a:xfrm>
            </p:grpSpPr>
            <p:sp>
              <p:nvSpPr>
                <p:cNvPr id="482" name=""/>
                <p:cNvSpPr/>
                <p:nvPr/>
              </p:nvSpPr>
              <p:spPr>
                <a:xfrm flipH="1">
                  <a:off x="6408720" y="598320"/>
                  <a:ext cx="1220760" cy="122220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761960" y="770040"/>
                <a:ext cx="195120" cy="1222200"/>
                <a:chOff x="7761960" y="770040"/>
                <a:chExt cx="195120" cy="1222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761960" y="770040"/>
                  <a:ext cx="195120" cy="122220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812720" y="765000"/>
                <a:ext cx="515880" cy="1220760"/>
                <a:chOff x="7812720" y="765000"/>
                <a:chExt cx="515880" cy="1220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7812720" y="765000"/>
                  <a:ext cx="515880" cy="122076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7858440" y="604800"/>
                <a:ext cx="731880" cy="1222200"/>
                <a:chOff x="7858440" y="604800"/>
                <a:chExt cx="731880" cy="12222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858440" y="604800"/>
                  <a:ext cx="731880" cy="122220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7998480" y="1355760"/>
                <a:ext cx="245880" cy="75564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rot="8880000">
                <a:off x="7608600" y="1103400"/>
                <a:ext cx="225360" cy="426960"/>
              </a:xfrm>
              <a:prstGeom prst="pie">
                <a:avLst/>
              </a:prstGeom>
              <a:noFill/>
              <a:ln w="1260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6338880" y="417600"/>
                <a:ext cx="1306800" cy="1220400"/>
                <a:chOff x="6338880" y="417600"/>
                <a:chExt cx="1306800" cy="1220400"/>
              </a:xfrm>
            </p:grpSpPr>
            <p:sp>
              <p:nvSpPr>
                <p:cNvPr id="492" name=""/>
                <p:cNvSpPr/>
                <p:nvPr/>
              </p:nvSpPr>
              <p:spPr>
                <a:xfrm flipH="1">
                  <a:off x="6338880" y="417600"/>
                  <a:ext cx="1306800" cy="1220400"/>
                </a:xfrm>
                <a:prstGeom prst="pie">
                  <a:avLst/>
                </a:prstGeom>
                <a:noFill/>
                <a:ln w="1260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708600" y="160200"/>
                <a:ext cx="949320" cy="547560"/>
                <a:chOff x="6708600" y="160200"/>
                <a:chExt cx="949320" cy="547560"/>
              </a:xfrm>
            </p:grpSpPr>
            <p:sp>
              <p:nvSpPr>
                <p:cNvPr id="494" name=""/>
                <p:cNvSpPr/>
                <p:nvPr/>
              </p:nvSpPr>
              <p:spPr>
                <a:xfrm flipH="1">
                  <a:off x="6708240" y="160200"/>
                  <a:ext cx="949320" cy="547560"/>
                </a:xfrm>
                <a:prstGeom prst="pie">
                  <a:avLst/>
                </a:prstGeom>
                <a:noFill/>
                <a:ln w="1260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722000" y="657360"/>
                <a:ext cx="392040" cy="523440"/>
                <a:chOff x="7722000" y="657360"/>
                <a:chExt cx="392040" cy="5234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7722000" y="657360"/>
                  <a:ext cx="392040" cy="523440"/>
                </a:xfrm>
                <a:prstGeom prst="pie">
                  <a:avLst/>
                </a:prstGeom>
                <a:noFill/>
                <a:ln w="1260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 flipH="1">
                <a:off x="6558840" y="1289160"/>
                <a:ext cx="551160" cy="77760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819480" y="461880"/>
                <a:ext cx="353880" cy="77796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7228800" y="228600"/>
                <a:ext cx="212760" cy="77796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562240" y="1173240"/>
                <a:ext cx="512640" cy="819000"/>
              </a:xfrm>
              <a:prstGeom prst="pie">
                <a:avLst/>
              </a:prstGeom>
              <a:noFill/>
              <a:ln w="1260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94040" y="755640"/>
                <a:ext cx="771480" cy="54612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324280" y="176040"/>
                <a:ext cx="336240" cy="731880"/>
              </a:xfrm>
              <a:prstGeom prst="pie">
                <a:avLst/>
              </a:prstGeom>
              <a:noFill/>
              <a:ln w="1260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280000">
                <a:off x="7985520" y="785880"/>
                <a:ext cx="225360" cy="428400"/>
              </a:xfrm>
              <a:prstGeom prst="pie">
                <a:avLst/>
              </a:prstGeom>
              <a:noFill/>
              <a:ln w="1260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320000">
                <a:off x="7176600" y="774360"/>
                <a:ext cx="225360" cy="428760"/>
              </a:xfrm>
              <a:prstGeom prst="pie">
                <a:avLst/>
              </a:prstGeom>
              <a:noFill/>
              <a:ln w="1260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83880"/>
            <a:ext cx="7772400" cy="1896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 Black"/>
              </a:rPr>
              <a:t>Chinese Inven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Paper (it was used for clothes at first, then for writing…seriously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826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Printing with carved wooden block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(called moveable type printing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826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Gunpowder…then Fireworks!  (watch out  Great Wall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826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Porcelain (that’s why it’s called China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08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53341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Sil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ed by Queen Si Ling-Chi perhaps ar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000 b.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from the cocoons of Silkworms (poor silkworm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lk was reserved for only the Emperor but gradually its use spread to the el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4321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4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Silk (continued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eautiful &amp; delicate thread soon began to be demanded all around the Ancient World (think Egypt, the Middle East, and even Europ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 Chinese secret.  If you tried to sneak Silkworms out of China you could be executed…gu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lkworms only ate Mulberry leaves so it was very hard to smuggle out silkwo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9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Which leads us to the Silk Road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Silk Ro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neither made out of silk or a road…discu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152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5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The Silk Road (cont.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really a series of trade routes that traded almost everything: precious stones, spices, textiles, and even do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tinuous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 almost 2,00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ead culture &amp; relig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73152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31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&amp; We can’t forget Festival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ese New Year (follows the lunar calendar which is based on the mo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falls in January or Febru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inese shoot fireworks to scare away misfortu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inese Zodiac goes in a 12 year cycle.  It contains the rooster, dog, pig, rat, ox, tiger, hare, dragon, snake, horse, sheep and monk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36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Chinese New Year families get together and have a large m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ren receive little red envelopes with $ inside (oh-yeah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lean your house and decorate it with pieces of red pap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before New Year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wise you m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eep out your goo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k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11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Confuci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a philosopher in Ancient Chin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his real name was Kong Qui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orn around 551 B.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 that “what you do not wish for yourself, do not do to other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id that 5 relationships were key to a stable society.  Ruler/Subjec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her/Son, Husband/Wif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er Brother/Younger Brother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Friend/Fri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90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17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ressed virtue which is shown by how people act, not what they sa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is teachings became know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s Confucianis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fucianism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pplied to all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reas of Chines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ife until th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30’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arted 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tes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meritocracy) rather than aristocrac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447048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2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Family Life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ads were the bo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  They told everything to do, even who you would marry (they could also sell you into slavery…yikes!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Dad,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ldest s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the bo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didn’t call your brother/sister by name but by title “oldest brother”, “#2 brother”, and “younger brother”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d on RESP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7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Family life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5000"/>
          </a:bodyPr>
          <a:p>
            <a:pPr marL="36324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hinese liv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oom houses.  One main room in the middle, with the parents bedroom on the left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l the childr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haring the bedroom on the righ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324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deal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ndparents, parents, and kids would all live in the same ho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324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althy built elaborate houses with courtya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3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mportant Riv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Yellow Riv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ocated in Northern China.  Is the most important river in China.  Floods frequently due to silt  which also explains how it received its name.  Also called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ver of Sorrow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Yangtze Riv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ocated in Southern China.  It i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ongest river in the world (over 3,900 miles long).  Contains the worlds largest dam (3 Gorges Da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8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Grand Can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t between 604-610 by the Sui Dyna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lthough it connected several older canals begun by previous Dynast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ed several of China’s most important cities (Beijing &amp; Hangzhou).  As well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Yangtz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Yellow Riv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sted the economy (since goods could travel more easil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ed to unify Ch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43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Grand Canal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over 1100 miles long (1114 to be exac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Great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was built by conscripted peas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over ½ of them di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constru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name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ous can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3809880" cy="25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49" name="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The Great Wa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971440" y="1142640"/>
            <a:ext cx="5638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by China’s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mperor Qin Shi Huang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d several older wa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completed in 11 years, 221-210 b.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t to keep out the “Northern Barbarian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tched 2,6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509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cpss</dc:creator>
  <dc:description/>
  <cp:keywords/>
  <dc:language>en-US</dc:language>
  <cp:lastModifiedBy>Jane Shlensky</cp:lastModifiedBy>
  <dcterms:modified xsi:type="dcterms:W3CDTF">2008-04-19T17:19:28Z</dcterms:modified>
  <cp:revision>1</cp:revision>
  <dc:subject/>
  <dc:title>Ancient China</dc:title>
</cp:coreProperties>
</file>